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benefits of electronic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from home/ on holidays / during absences /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building partners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t during other strands/top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A740-EA28-492E-8256-E9A2B5762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5AFF-E116-4A0B-B152-9172EDFA8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4DF7-381D-495E-A7D6-F178202ED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B6AB-62E5-48E5-AC81-78146BC75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3086-25DF-4B50-A29C-17BFBE9ED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AB6A-0F62-49CE-97A6-271F40D62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C6FB-7E6A-4C76-8AAE-19B5CB73F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FE68-91C1-47B9-B5EC-A376756CC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9684-D256-4E1D-8DE0-7350715E3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0673-A6AB-4CB2-BEA8-6992433C0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1653-46FF-49D0-BE0E-47E803632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0CCE-10B8-4D0E-BE60-CAB185A07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5742-C7EC-466C-8A31-C5231CA4A9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ains-camppp.wikispaces.com/file/view/Learning%2BWalls%2BArticle.pdf" TargetMode="External"/><Relationship Id="rId2" Type="http://schemas.openxmlformats.org/officeDocument/2006/relationships/hyperlink" Target="http://gains-camppp.wikispaces.com/file/view/Learning%2BWalls%2BArticle.pd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ame.on.ca/CLIPS/" TargetMode="External"/><Relationship Id="rId2" Type="http://schemas.openxmlformats.org/officeDocument/2006/relationships/hyperlink" Target="http://www.edugains.ca/newsite/math2/index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9C1A-3AA6-4B03-BA10-F9F6D7BCC7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T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portfol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learning wa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B66-ADAD-46F0-BE25-70B41A7266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888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AD32-DC58-416A-9B29-534AA3C8F1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athLearningWall"/>
          <p:cNvPicPr/>
          <p:nvPr/>
        </p:nvPicPr>
        <p:blipFill>
          <a:blip r:embed="rId1"/>
          <a:stretch/>
        </p:blipFill>
        <p:spPr>
          <a:xfrm>
            <a:off x="2438280" y="2041560"/>
            <a:ext cx="620100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5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98720" y="1752480"/>
            <a:ext cx="70689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ed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ins-camppp.wikispaces.com/file/view/Learning%2BWalls%2BArtic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68A2-11FC-4B69-9E8C-2C798FEE9F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733920" y="1371600"/>
            <a:ext cx="4800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4648320"/>
            <a:ext cx="8229600" cy="146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CAD-D4D4-4812-8864-196E7572AC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38E-A1ED-46A9-88AF-D983AAFBF3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 rot="1060800">
            <a:off x="5618160" y="740880"/>
            <a:ext cx="2890800" cy="3329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49400" y="144792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 assessment purposes, a portfolio can be defined as "a purposeful collection of student performances that exhibits a student's effort, progress and achievement over a period of ti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Hibbard et al, 1996, p. 18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Expert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groups of 5 (this is your home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from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s meet with ones, twos with tw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your expert group read and discusses assigned section from the Saskatchewan Professional Development Uni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ortfolios: More Than Just a Folder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A1B0-024B-4D09-926A-C6ACF8BB4D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Home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s return to hom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F1C4-EB9B-42F6-9EB0-C1DA8F26B0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816800" y="2140200"/>
            <a:ext cx="3575520" cy="3617640"/>
            <a:chOff x="4816800" y="2140200"/>
            <a:chExt cx="3575520" cy="3617640"/>
          </a:xfrm>
        </p:grpSpPr>
        <p:sp>
          <p:nvSpPr>
            <p:cNvPr id="103" name="Right Arrow Callout 4"/>
            <p:cNvSpPr/>
            <p:nvPr/>
          </p:nvSpPr>
          <p:spPr>
            <a:xfrm rot="809400">
              <a:off x="4955760" y="3015360"/>
              <a:ext cx="1341000" cy="1351440"/>
            </a:xfrm>
            <a:prstGeom prst="rightArrowCallout">
              <a:avLst>
                <a:gd name="adj1" fmla="val 25197"/>
                <a:gd name="adj2" fmla="val 25195"/>
                <a:gd name="adj3" fmla="val 25000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n Arrow Callout 5"/>
            <p:cNvSpPr/>
            <p:nvPr/>
          </p:nvSpPr>
          <p:spPr>
            <a:xfrm rot="809400">
              <a:off x="6167160" y="2277720"/>
              <a:ext cx="1341000" cy="1351440"/>
            </a:xfrm>
            <a:prstGeom prst="downArrowCallout">
              <a:avLst>
                <a:gd name="adj1" fmla="val 25002"/>
                <a:gd name="adj2" fmla="val 25000"/>
                <a:gd name="adj3" fmla="val 25195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eft Arrow Callout 6"/>
            <p:cNvSpPr/>
            <p:nvPr/>
          </p:nvSpPr>
          <p:spPr>
            <a:xfrm rot="809400">
              <a:off x="6912000" y="3484800"/>
              <a:ext cx="1341000" cy="1351440"/>
            </a:xfrm>
            <a:prstGeom prst="leftArrowCallout">
              <a:avLst>
                <a:gd name="adj1" fmla="val 25197"/>
                <a:gd name="adj2" fmla="val 25195"/>
                <a:gd name="adj3" fmla="val 25000"/>
                <a:gd name="adj4" fmla="val 649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Up Arrow Callout 7"/>
            <p:cNvSpPr/>
            <p:nvPr/>
          </p:nvSpPr>
          <p:spPr>
            <a:xfrm rot="809400">
              <a:off x="5689800" y="4268520"/>
              <a:ext cx="1341000" cy="1351440"/>
            </a:xfrm>
            <a:prstGeom prst="upArrowCallout">
              <a:avLst>
                <a:gd name="adj1" fmla="val 25002"/>
                <a:gd name="adj2" fmla="val 25000"/>
                <a:gd name="adj3" fmla="val 25195"/>
                <a:gd name="adj4" fmla="val 70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20920" y="152280"/>
            <a:ext cx="59230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evernote.com/schoo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tructions for creating a portfolio using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blog.evernote.com/2012/02/28/how-to-create-a-portfolio-with-evernote-education-seri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4253-96DD-4C36-84F1-9FBEAF8DCA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ilding a Learning Wall/Portfoli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may work electronically or 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sible op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Prezi / Pap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Math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a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pdate/Beautify our class Learning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ther…i.e., explore CLIPS, Math GAINS si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56B9-10A7-4DA4-AE8F-EF5E82E244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ulate and explore each other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brief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1C6-A989-4FEB-9AA3-C0F4FA5EC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46512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as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the Meaning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S/Epractice and the Math GAIN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Discussion and low key working period on Portfolios and 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DB34-2405-4CAB-8090-F1ABB888B0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yground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has just build a new playground.  ¾ of the playground is for field activities, and the rest of the yard is paved.  ½ of the paved area is for hopscotch squares.  How much of the playground is designated for hopsco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2CE3-C3B3-41C5-9324-1D9F83E868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 of the Meaning of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 group will pick one of the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consolidat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11x17 poster that illustrates our best thinking at this point in tim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71F9-74DB-4A21-94F5-336FA34331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35D2-9108-4FF2-8B49-44140483FA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PS and Math GAI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th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2653-128E-4D95-8949-F9D3FC6A25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Assessment of Leaning as a continuous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learning walls and portfolios as an opportunity for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portfolios and learning wall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D00-0536-4F5D-880D-7B748DB66E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E352-9661-4DAE-A9D1-21BC2A39B7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ide 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wo circles - one insid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on the inside face participants in the outs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in the outside circle will rotate according to facilitato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the prompt with the person acros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D01-513A-4670-9824-BBA1D8061B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nut 4"/>
          <p:cNvSpPr/>
          <p:nvPr/>
        </p:nvSpPr>
        <p:spPr>
          <a:xfrm>
            <a:off x="6705720" y="304920"/>
            <a:ext cx="1218960" cy="1218960"/>
          </a:xfrm>
          <a:custGeom>
            <a:avLst/>
            <a:gdLst/>
            <a:ahLst/>
            <a:rect l="l" t="t" r="r" b="b"/>
            <a:pathLst>
              <a:path w="1219200" h="1219200">
                <a:moveTo>
                  <a:pt x="0" y="609600"/>
                </a:moveTo>
                <a:cubicBezTo>
                  <a:pt x="0" y="272927"/>
                  <a:pt x="272927" y="0"/>
                  <a:pt x="609600" y="0"/>
                </a:cubicBezTo>
                <a:cubicBezTo>
                  <a:pt x="946273" y="0"/>
                  <a:pt x="1219200" y="272927"/>
                  <a:pt x="1219200" y="609600"/>
                </a:cubicBezTo>
                <a:cubicBezTo>
                  <a:pt x="1219200" y="946273"/>
                  <a:pt x="946273" y="1219200"/>
                  <a:pt x="609600" y="1219200"/>
                </a:cubicBezTo>
                <a:cubicBezTo>
                  <a:pt x="272927" y="1219200"/>
                  <a:pt x="0" y="946273"/>
                  <a:pt x="0" y="609600"/>
                </a:cubicBezTo>
                <a:close/>
                <a:moveTo>
                  <a:pt x="304800" y="609600"/>
                </a:moveTo>
                <a:cubicBezTo>
                  <a:pt x="304800" y="777936"/>
                  <a:pt x="441264" y="914400"/>
                  <a:pt x="609600" y="914400"/>
                </a:cubicBezTo>
                <a:cubicBezTo>
                  <a:pt x="777936" y="914400"/>
                  <a:pt x="914400" y="777936"/>
                  <a:pt x="914400" y="609600"/>
                </a:cubicBezTo>
                <a:cubicBezTo>
                  <a:pt x="914400" y="441264"/>
                  <a:pt x="777936" y="304800"/>
                  <a:pt x="609600" y="304800"/>
                </a:cubicBezTo>
                <a:cubicBezTo>
                  <a:pt x="441264" y="304800"/>
                  <a:pt x="304800" y="441264"/>
                  <a:pt x="304800" y="6096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8-22T20:24:40Z</dcterms:modified>
  <cp:revision>41</cp:revision>
  <dc:subject/>
  <dc:title>&lt;Title&gt;</dc:title>
</cp:coreProperties>
</file>